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F67-3BA4-4F6F-81A3-4A724281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65EF-4BF3-4437-8A29-CB7E1139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7549-B878-4518-B647-AB9431C1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36B-E95F-46FA-BD95-792A8952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D02-BC83-4515-8325-EB620D6F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E59E-5BB9-4A4F-BAF7-C0F9189B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FD5-9BE2-4F86-A7F7-069A5187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4AE-E679-40D1-81B0-DAFFE68D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05D2-0B5A-49FC-9836-E090F4AC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D556-569E-4E17-9D1A-3A4E715F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BE7-FB87-47C8-B1D5-68B6A2D6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15F-C704-4AF9-8B16-5DC970A2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147D-3E3A-4BFA-9D0C-71831CFA4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no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yan Faf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1479600">
            <a:off x="2057040" y="1904760"/>
            <a:ext cx="3755880" cy="3382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day I woke up to get ready for school just as us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uddenly, I realized I was late for the bus! I then began to run to the bus stop.  Unfortunately, a car came from behind and hit me, knocking me unconscious.  Once I had awakened I saw the silhouette of a long haired bearded man. While still quite groggy I inquired,  “Jesus?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then answered “No it’s John Lennon, mat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here to be your guide through heaven!” exclaimed the jolly Bea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?” I as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aid “yeah, look around you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glanced around at the sight, and what I saw was flabbergasting. There were plush white clouds, beautiful purple mountain tops, and there were angels flying every where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Graham 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: 1847-19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 of tel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ed new worlds for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of death: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ard: gets to live in heaven but has no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hone3"/>
          <p:cNvSpPr/>
          <p:nvPr/>
        </p:nvSpPr>
        <p:spPr>
          <a:xfrm>
            <a:off x="5943600" y="1219320"/>
            <a:ext cx="1905120" cy="1600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iet Tub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:1820-19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or of underground 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d over 300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if death: old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ard: lives in heaven with good neighborhood and regular w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00600" y="304920"/>
            <a:ext cx="4114800" cy="1763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 Te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: 1910-19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nice and kind her whole life helped the needy and poor, also converted many to Christia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of death: old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ard: lives in heaven in the highest social ring with large beautiful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 after finding out all the things that these people did in their lives, I decide to as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, what will be my reward?” He answ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ctually go to hell, but we foresaw that you could change to be good by seeing this. But after I send you back you will be on your own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ly?” I said “Well how is it that I am going to return to the earth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mirked then replied “Well we have a way to send you back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hat would that be?” I as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hen told me to close my eyes which I did and slapped me in the face har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 open my eyes I was back in my bed in the time when I had woke up that morning that had started the whole mess, I was dreaming! I thought to my self “What a strange dream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A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S online, Africans of America Harriet Tubman January 4, 2010 “We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k, Kathryn, “Mother Teresa, A Complete Authorized Biography” Harper San Francisco, 1997. Net Library.   January 4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Graham Bell- biography about.com January 4, 2010 “We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20:46:52Z</dcterms:created>
  <dc:creator>.</dc:creator>
  <dc:description/>
  <dc:language>en-US</dc:language>
  <cp:lastModifiedBy>.</cp:lastModifiedBy>
  <dcterms:modified xsi:type="dcterms:W3CDTF">2010-01-08T00:45:54Z</dcterms:modified>
  <cp:revision>2</cp:revision>
  <dc:subject/>
  <dc:title>Inferno Project</dc:title>
</cp:coreProperties>
</file>